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2E8E-5E34-4D65-9B01-3D9FEC1B0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DC06-7915-4C17-B82E-99E90204E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martArt custom animation effects: upward arrow proc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Basic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reproduce the SmartArt effects on this slide, do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om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ab,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lid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group,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and then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lank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nsert tab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llustration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group,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martAr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oose a SmartArt Graphic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dialog box, in the left pane,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roces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roces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ane,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Upward Arrow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ixth row, third option from the left), and then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K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o insert the graphic into the sl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ect the graphic, and then click one of the arrows on the left border.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ype your text he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log box, enter text.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ot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reate a bulleted list below each heading, select the heading text box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ype your text here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log box, and then 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martAr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ool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o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esig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ab,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reat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raphic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group,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d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ulle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Enter text into the new bullet text box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slide, select the graphic. Under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SmartAr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ool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o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esig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ab,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martAr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tyl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group, do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ang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lor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and then 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lorfu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lorful  Range - Accent Colors 3 to 4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hird option from the lef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r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and then 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est Match for Docum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ntense Effe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fifth option from the lef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om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ab,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o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group, selec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alib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on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, and then selec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4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ont Siz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ect the text in the first text box from the left. Under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SmartAr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ool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o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orma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ab,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ordAr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tyl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group, click the arrow next to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ex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i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and then 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me Color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liv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reen, Accent 3, Darker 25%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fifth row, seventh option from the lef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ect the text in the second text box from the left. Under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SmartAr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ool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o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orma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ab,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ordAr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tyl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group, click the arrow next to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ex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i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and then 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me Color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qua, Accent 5, Darker 25%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fifth row, ninth option from the lef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ect the text in the third text box from the left. Under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SmartAr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ool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o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orma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ab,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ordAr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tyl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group, click the arrow next to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ex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i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and then 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me Color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urple, Accent 4, Darker 25%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fifth row, eighth option from the lef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reproduce the animation effects on this slide, do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nimation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ab,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nimation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group,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usto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nima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slide, select the graphic.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usto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nima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ask pane, do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dd Effec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point to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ntr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and then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r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ffect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In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 Add Entrance Effe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log box, 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asic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i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dify: Wi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ire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ist, selec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rom Lef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dify: Wi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pee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ist, selec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a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ustom Anima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k pane, select the wipe effect. Click the arrow to the right of the wipe effect, and then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ffect Option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i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dialog box, o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martArt Anima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b,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roup graphic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, selec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ne by on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ustom Anima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k pane, click the double arrow under the wipe effect to expand the contents of the list of eff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ustom Anima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k pane, select the second wipe effect and then do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ang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point to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ntr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and then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re Effect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ange Entrance Effe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log box, 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xcit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urve U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dify: Curve U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tar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, selec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ith Previou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dify: Curve U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pee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ist, selec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ery Fa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ustom Anima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k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e, select the third wipe effect and then do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ang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point to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ntr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and then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re Effect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ange Entrance Effe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log box, 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derat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esce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dify: Desce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tar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, selec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ith Previou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dify: Desce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pee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ist, selec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ery Fa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he arrow to the right of the third wipe effect, and then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im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esce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dialog box, o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im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ab,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ela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x, ent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0.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ustom Anima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k pane, select the fourth wipe effect and then do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ang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point to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ntr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and then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re Effect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ange Entrance Effe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log box, 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xcit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urve U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dify: Curve U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tar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, selec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n Click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dify: Curve U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pee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ist, selec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ery Fa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ustom Anima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k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e, select the fifth wipe effect and then do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ang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point to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ntr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and then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re Effect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ange Entrance Effe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log box, 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derat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esce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dify: Desce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tar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, selec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fter Previou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dify: Desce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pee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ist, selec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ery Fa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ustom Anima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k pane, select the sixth wipe effect and then do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ang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point to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ntr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and then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re Effect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ange Entrance Effe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log box, 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xcit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urve U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dify: Curve U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tar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, selec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n Click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dify: Curve U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pee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ist, selec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ery Fa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ustom Anima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k pane, select the seventh wipe effect and then do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ang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point to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ntr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and then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re Effect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ange Entrance Effe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log box, 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derat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esce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dify: Desce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tar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, selec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fter Previou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dify: Desce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pee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ist, selec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ery Fa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reproduce the background effects on this slide, do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-click the slide background area, and then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ormat Backgrou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ormat Backgrou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log box,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i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n the left pane, selec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radient fi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i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ane, and then do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ist, selec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inea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ire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ist,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inear Righ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first row, fourth option from the lef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radient stop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d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mov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until two stops appear in the drop-down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radient stop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customize the gradient stops that you added as follow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ec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top 1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list, and then do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top posi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x, ent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9%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he button next to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lo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and then 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me Color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hite, Background 1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first row, first option from the lef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ec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top 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list, and then do the following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top posi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x, ent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00%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he button next to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lo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and then 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me Color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live Green, Accent 3, Lighter 60%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hird row, seventh option from the lef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increase the size of the SmartArt graphic so that it spans the entire slide, do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slide, select the graphi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nt to the top right corner of the graphic border, until a two-headed arrow appears. Drag the top right corner of the graphic border into the top right corner of the sl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nt to the bottom left corner of the graphic border, until a two-headed arrow appears. Drag the bottom left corner of the graphic border into the bottom left corner of the sl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ldImg"/>
          </p:nvPr>
        </p:nvSpPr>
        <p:spPr>
          <a:xfrm>
            <a:off x="533520" y="460440"/>
            <a:ext cx="3144600" cy="2359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3229-408A-4837-A298-CAE7A02F7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1821-4078-4969-ACCF-EA2AB2E94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AF7E-440F-47E3-9D7C-9FF703C00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0AE5-5FC0-483B-A95C-24BE15FF7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FB32-F25B-4041-AACA-AE6FA3292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A595-F8A0-4088-BE67-CCC54710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A359-51C8-430A-A3E3-ABC1AF599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8DA6-D315-47E4-A956-28DE3CA67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5A11-F73B-4057-ABE0-03A260B7C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B931-6025-401B-9DD3-3D3A4127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7CAC-395D-450D-BC16-30F63EFB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C52A-0FB0-431B-AAE3-EDFB754A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C0D9-AB68-4792-86D6-67E704F7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4B09-2402-47D1-9C21-8D118FE1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4F72-4825-4537-AB1B-2180EAF0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55C9-553C-4606-9ED1-F65EEA17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3A6E-561F-43BD-839D-12140136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A828-B313-49FB-9C51-D2790B04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4AD2-B845-4B43-8DC0-CC053ABB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156C-68FB-4795-ADB7-CFFA6B9DE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34AF-8A71-4562-97D3-624408C8B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F267E-A266-4F9D-BA42-64D874741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B0E91-8716-42D9-92ED-AC8B7783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DE96B-826C-4D41-A75E-480CD3F0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682F3-7A6B-48E7-BA5A-8D177784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28153-AC7A-4D85-ACB7-DD96F09F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FF73-F791-4D43-9101-D6AE74E7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6C7D9-0A0A-4279-B337-5F79F9D1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4116F-3EB8-4F1B-8E08-3E4234E0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B91CD-D1C2-4DDE-A591-45D2F725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FABCF-201F-4162-B4D1-F572658B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E78A6-C0EE-4361-8CE2-28F20135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8A5B7-EFAF-44C6-B494-E8E1D0203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3DBA2-D63B-4CF0-985B-D21591648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C7230-32F1-499B-A600-B5E9514C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4B547-2120-4548-85D3-4B807AC6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DC5F5-CC4D-4EA6-AB8E-9F4B902F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A5B9-19DF-47A2-AC35-AF07D58D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707FE-BB1E-4DAD-AF21-7FEFBB14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BC12C-6B7F-4DB4-90BE-991E5F51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8C26D-0629-45C3-8C6C-B55E71C4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030BA-75A5-4957-B091-6AA37337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2A355-F792-4AA4-BF5A-24DD77E7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E32C3-7202-4415-AA24-9265D923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7CC21-340B-49C3-A5D7-01576F5C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0D8B1-D300-4C8A-84D1-A36621CE8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10857-E14C-4BEB-B77F-AC784877C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2EE5-66A2-4255-A314-C09C5C46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CB0A-AF50-4EF7-9483-A57A43F4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2AA0-87C8-4126-9FB2-7EA9E051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D40C-2EAE-4F1A-86A9-7E254560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B848-4CAD-465E-AFFE-BA22613D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D60A-356D-4B8C-83EC-E61A9B16735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regory Leptoukh, NAS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1E68-46FC-458E-8839-CFF99C44AA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7237080"/>
            <a:ext cx="1349280" cy="38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9669-4460-4873-91E5-73093059E6E3}" type="datetime">
              <a:rPr b="0" lang="en-US" sz="16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1503000" y="7237080"/>
            <a:ext cx="7723080" cy="38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regory Leptoukh, NA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9325080" y="7224840"/>
            <a:ext cx="814320" cy="382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01DA-0137-43D3-A980-A604579F9D12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7" descr="fullblack"/>
          <p:cNvPicPr/>
          <p:nvPr/>
        </p:nvPicPr>
        <p:blipFill>
          <a:blip r:embed="rId2"/>
          <a:srcRect l="15465" t="17982" r="22436" b="13603"/>
          <a:stretch/>
        </p:blipFill>
        <p:spPr>
          <a:xfrm>
            <a:off x="46080" y="33480"/>
            <a:ext cx="799920" cy="79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62120" y="7178760"/>
            <a:ext cx="2117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AE3A-D69D-4C78-ADE4-1BABA5DE9DE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70040" y="7178760"/>
            <a:ext cx="321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regory Leptoukh, NAS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79920" y="7178760"/>
            <a:ext cx="2119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6CF1-2A65-4C5E-9BCA-4119F3D418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fullblack"/>
          <p:cNvPicPr/>
          <p:nvPr/>
        </p:nvPicPr>
        <p:blipFill>
          <a:blip r:embed="rId2"/>
          <a:srcRect l="15465" t="17982" r="22436" b="13603"/>
          <a:stretch/>
        </p:blipFill>
        <p:spPr>
          <a:xfrm>
            <a:off x="46080" y="33480"/>
            <a:ext cx="799920" cy="7984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0" y="7237080"/>
            <a:ext cx="1349280" cy="38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9901-ACF2-4CEF-95CC-056C6D8B4D6E}" type="datetime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1503000" y="7237080"/>
            <a:ext cx="7723080" cy="38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regory Leptoukh, NA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9325080" y="7224840"/>
            <a:ext cx="814320" cy="382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0E7D-7C2A-4B21-B1BC-AA45D33A246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slideLayout" Target="../slideLayouts/slideLayout25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655640" y="2361960"/>
            <a:ext cx="70819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Giovanni for AQ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422360" y="3962520"/>
            <a:ext cx="71978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Gregory Leptouk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NASA Goddard Space Flight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Arial"/>
              </a:rPr>
              <a:t>Goddard Earth Sciences </a:t>
            </a:r>
            <a:br>
              <a:rPr sz="2400"/>
            </a:br>
            <a:r>
              <a:rPr b="0" lang="en-US" sz="2400" spc="-1" strike="noStrike">
                <a:solidFill>
                  <a:srgbClr val="9999ff"/>
                </a:solidFill>
                <a:latin typeface="Arial"/>
              </a:rPr>
              <a:t>Data and Information Services Center (GES DIS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1760" y="2367000"/>
            <a:ext cx="8636040" cy="2487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Data Harmonization, Data Provenance and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cience quality of Giovanni results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1"/>
          <p:cNvSpPr/>
          <p:nvPr/>
        </p:nvSpPr>
        <p:spPr>
          <a:xfrm>
            <a:off x="762120" y="6942240"/>
            <a:ext cx="21175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352A-C84C-47ED-9E96-F5D702F0338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Footer Placeholder 2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regory Leptoukh, NA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7280280" y="6942240"/>
            <a:ext cx="2119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99FA-2B78-4C19-BA5D-93FFDEF851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44040" y="14400"/>
            <a:ext cx="863604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Data harmonization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423720" y="932040"/>
            <a:ext cx="9398160" cy="60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lvl="1" marL="135000" indent="-79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298"/>
                </a:solidFill>
                <a:latin typeface="Trebuchet MS"/>
                <a:ea typeface="ヒラギノ角ゴ Pro W3"/>
              </a:rPr>
              <a:t>Data from multiple sensors need to be harmonized before comparison or fu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35000" indent="-79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35000" indent="-79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298"/>
                </a:solidFill>
                <a:latin typeface="Trebuchet MS"/>
                <a:ea typeface="ヒラギノ角ゴ Pro W3"/>
              </a:rPr>
              <a:t>Harmonization is needed fo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35000" indent="-7920">
              <a:lnSpc>
                <a:spcPct val="95000"/>
              </a:lnSpc>
              <a:buClr>
                <a:srgbClr val="fff298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298"/>
                </a:solidFill>
                <a:latin typeface="Trebuchet MS"/>
                <a:ea typeface="ヒラギノ角ゴ Pro W3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35000" indent="-7920">
              <a:lnSpc>
                <a:spcPct val="95000"/>
              </a:lnSpc>
              <a:buClr>
                <a:srgbClr val="fff298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298"/>
                </a:solidFill>
                <a:latin typeface="Trebuchet MS"/>
                <a:ea typeface="ヒラギノ角ゴ Pro W3"/>
              </a:rPr>
              <a:t>Meta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35000" indent="-7920">
              <a:lnSpc>
                <a:spcPct val="95000"/>
              </a:lnSpc>
              <a:buClr>
                <a:srgbClr val="fff298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298"/>
                </a:solidFill>
                <a:latin typeface="Trebuchet MS"/>
                <a:ea typeface="ヒラギノ角ゴ Pro W3"/>
              </a:rPr>
              <a:t>Gr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35000" indent="-7920">
              <a:lnSpc>
                <a:spcPct val="95000"/>
              </a:lnSpc>
              <a:buClr>
                <a:srgbClr val="fff298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298"/>
                </a:solidFill>
                <a:latin typeface="Trebuchet MS"/>
                <a:ea typeface="ヒラギノ角ゴ Pro W3"/>
              </a:rPr>
              <a:t>Qualit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35000" indent="-7920">
              <a:lnSpc>
                <a:spcPct val="95000"/>
              </a:lnSpc>
              <a:buClr>
                <a:srgbClr val="fff298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298"/>
                </a:solidFill>
                <a:latin typeface="Trebuchet MS"/>
                <a:ea typeface="ヒラギノ角ゴ Pro W3"/>
              </a:rPr>
              <a:t>Proven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35000" indent="-79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35000" indent="-79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298"/>
                </a:solidFill>
                <a:latin typeface="Trebuchet MS"/>
                <a:ea typeface="ヒラギノ角ゴ Pro W3"/>
              </a:rPr>
              <a:t>To ensure “apples-to-apples”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ctr">
              <a:lnSpc>
                <a:spcPct val="100000"/>
              </a:lnSpc>
              <a:spcBef>
                <a:spcPts val="663"/>
              </a:spcBef>
              <a:spcAft>
                <a:spcPts val="6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7"/>
          <p:cNvSpPr/>
          <p:nvPr/>
        </p:nvSpPr>
        <p:spPr>
          <a:xfrm>
            <a:off x="762120" y="6942240"/>
            <a:ext cx="21175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A5EF-90BB-4BF7-AC0A-4302F43CEE1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8"/>
          <p:cNvSpPr/>
          <p:nvPr/>
        </p:nvSpPr>
        <p:spPr>
          <a:xfrm>
            <a:off x="7280280" y="6942240"/>
            <a:ext cx="2119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n Francisco, C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fld id="{6ABA92E9-C2E4-43BF-8A21-312FF3A378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Footer Placeholder 9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regory Leptoukh, NA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10" descr="acp_sep28_demo_g3_wms_latlonplot.PNG"/>
          <p:cNvPicPr/>
          <p:nvPr/>
        </p:nvPicPr>
        <p:blipFill>
          <a:blip r:embed="rId1"/>
          <a:srcRect l="5279" t="27139" r="6251" b="30700"/>
          <a:stretch/>
        </p:blipFill>
        <p:spPr>
          <a:xfrm>
            <a:off x="577800" y="2075040"/>
            <a:ext cx="8989920" cy="3174840"/>
          </a:xfrm>
          <a:prstGeom prst="rect">
            <a:avLst/>
          </a:prstGeom>
          <a:ln w="0">
            <a:noFill/>
          </a:ln>
        </p:spPr>
      </p:pic>
      <p:sp>
        <p:nvSpPr>
          <p:cNvPr id="264" name="TextBox 12"/>
          <p:cNvSpPr/>
          <p:nvPr/>
        </p:nvSpPr>
        <p:spPr>
          <a:xfrm>
            <a:off x="932040" y="5602320"/>
            <a:ext cx="7816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ps of Ozone from OMI (NASA Goddard) and GOME2 (DLR, Germany) harmonized by Giovan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Box 13"/>
          <p:cNvSpPr/>
          <p:nvPr/>
        </p:nvSpPr>
        <p:spPr>
          <a:xfrm>
            <a:off x="1898640" y="3486240"/>
            <a:ext cx="10731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  <a:ea typeface="Arial"/>
              </a:rPr>
              <a:t>O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14"/>
          <p:cNvSpPr/>
          <p:nvPr/>
        </p:nvSpPr>
        <p:spPr>
          <a:xfrm>
            <a:off x="6372360" y="3471840"/>
            <a:ext cx="1679400" cy="5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c000"/>
                </a:solidFill>
                <a:latin typeface="Arial"/>
                <a:ea typeface="Arial"/>
              </a:rPr>
              <a:t>GOME2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7640" y="79200"/>
            <a:ext cx="68724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Interoperability with other data centers in USA and Europe</a:t>
            </a:r>
            <a:endParaRPr b="0" lang="en-US" sz="3600" spc="-1" strike="noStrike">
              <a:solidFill>
                <a:srgbClr val="ffff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Diagram 2" descr=""/>
          <p:cNvPicPr/>
          <p:nvPr/>
        </p:nvPicPr>
        <p:blipFill>
          <a:blip r:embed="rId1"/>
          <a:stretch/>
        </p:blipFill>
        <p:spPr>
          <a:xfrm>
            <a:off x="-19080" y="304920"/>
            <a:ext cx="10193400" cy="716904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79000" y="228240"/>
            <a:ext cx="863604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Evolving Giovanni infrastructure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88480" y="-360"/>
            <a:ext cx="86360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Agile Giovanni for Year of Tropical Convection (YOTC)</a:t>
            </a:r>
            <a:endParaRPr b="0" lang="en-US" sz="4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7280280" y="6942240"/>
            <a:ext cx="2119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E9C9-C036-4132-8EC7-5FB3E27D2C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Group 70"/>
          <p:cNvGrpSpPr/>
          <p:nvPr/>
        </p:nvGrpSpPr>
        <p:grpSpPr>
          <a:xfrm>
            <a:off x="1955880" y="1295280"/>
            <a:ext cx="6324480" cy="4753080"/>
            <a:chOff x="1955880" y="1295280"/>
            <a:chExt cx="6324480" cy="4753080"/>
          </a:xfrm>
        </p:grpSpPr>
        <p:pic>
          <p:nvPicPr>
            <p:cNvPr id="273" name="Picture 6" descr=""/>
            <p:cNvPicPr/>
            <p:nvPr/>
          </p:nvPicPr>
          <p:blipFill>
            <a:blip r:embed="rId1"/>
            <a:srcRect l="717" t="14481" r="1014" b="14892"/>
            <a:stretch/>
          </p:blipFill>
          <p:spPr>
            <a:xfrm>
              <a:off x="1955880" y="1295280"/>
              <a:ext cx="6324480" cy="475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24" descr="file_0.jpg"/>
            <p:cNvPicPr/>
            <p:nvPr/>
          </p:nvPicPr>
          <p:blipFill>
            <a:blip r:embed="rId2"/>
            <a:srcRect l="0" t="17241" r="0" b="3450"/>
            <a:stretch/>
          </p:blipFill>
          <p:spPr>
            <a:xfrm>
              <a:off x="5111280" y="2154240"/>
              <a:ext cx="2668320" cy="303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TextBox 25"/>
          <p:cNvSpPr/>
          <p:nvPr/>
        </p:nvSpPr>
        <p:spPr>
          <a:xfrm>
            <a:off x="279360" y="6149880"/>
            <a:ext cx="960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IRS and TRMM Level 2 profile data are extracted from a single point location after a location is selected from a spatial map produced from the relevant Level 3 da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Date Placeholder 26"/>
          <p:cNvSpPr/>
          <p:nvPr/>
        </p:nvSpPr>
        <p:spPr>
          <a:xfrm>
            <a:off x="762120" y="6942240"/>
            <a:ext cx="21175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F6D5-4C7B-43E1-B7AF-14AB788C5CB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ooter Placeholder 27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regory Leptoukh, NA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41480" y="228240"/>
            <a:ext cx="861048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Peer-reviewed publications acknowledging Giovanni</a:t>
            </a:r>
            <a:endParaRPr b="0" lang="en-US" sz="40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279" name="Content Placeholder 3" descr=""/>
          <p:cNvPicPr/>
          <p:nvPr/>
        </p:nvPicPr>
        <p:blipFill>
          <a:blip r:embed="rId1"/>
          <a:stretch/>
        </p:blipFill>
        <p:spPr>
          <a:xfrm>
            <a:off x="414360" y="1517760"/>
            <a:ext cx="9412200" cy="5718240"/>
          </a:xfrm>
          <a:prstGeom prst="rect">
            <a:avLst/>
          </a:prstGeom>
          <a:ln w="0">
            <a:noFill/>
          </a:ln>
        </p:spPr>
      </p:pic>
      <p:sp>
        <p:nvSpPr>
          <p:cNvPr id="280" name="Date Placeholder 4"/>
          <p:cNvSpPr/>
          <p:nvPr/>
        </p:nvSpPr>
        <p:spPr>
          <a:xfrm>
            <a:off x="762120" y="6942240"/>
            <a:ext cx="21175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E62F-08A6-4181-A9FE-720D9C68730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lide Number Placeholder 5"/>
          <p:cNvSpPr/>
          <p:nvPr/>
        </p:nvSpPr>
        <p:spPr>
          <a:xfrm>
            <a:off x="7280280" y="6942240"/>
            <a:ext cx="2119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4FAC-8640-4159-9F93-64A6EA95A4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ooter Placeholder 6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regory Leptoukh, NA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3708360" y="1273320"/>
            <a:ext cx="609588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66"/>
                </a:solidFill>
                <a:latin typeface="Arial"/>
              </a:rPr>
              <a:t>Comprehensive Data Systems</a:t>
            </a: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 provide an environment for working with </a:t>
            </a:r>
            <a:r>
              <a:rPr b="0" i="1" lang="en-US" sz="2200" spc="-1" strike="noStrike">
                <a:solidFill>
                  <a:srgbClr val="ffff66"/>
                </a:solidFill>
                <a:latin typeface="Arial"/>
              </a:rPr>
              <a:t>all</a:t>
            </a: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 sources of relevant data (satellite, ground-based and models) across the full range of temporal and spatial sca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838080" y="1766880"/>
            <a:ext cx="1546200" cy="11016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6"/>
          <p:cNvSpPr/>
          <p:nvPr/>
        </p:nvSpPr>
        <p:spPr>
          <a:xfrm>
            <a:off x="2133720" y="2160720"/>
            <a:ext cx="7905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POLD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731880" y="2227320"/>
            <a:ext cx="74772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Ter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1481040" y="2073240"/>
            <a:ext cx="14097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Aq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811080" y="2368440"/>
            <a:ext cx="140832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Au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731880" y="2662200"/>
            <a:ext cx="78912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CloudSA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1967040" y="1962000"/>
            <a:ext cx="7887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CALIP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2279520" y="2422440"/>
            <a:ext cx="69372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SOR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1589040" y="2619360"/>
            <a:ext cx="5508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TRM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14" descr=""/>
          <p:cNvPicPr/>
          <p:nvPr/>
        </p:nvPicPr>
        <p:blipFill>
          <a:blip r:embed="rId2"/>
          <a:stretch/>
        </p:blipFill>
        <p:spPr>
          <a:xfrm>
            <a:off x="1368360" y="3301920"/>
            <a:ext cx="434880" cy="7416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5"/>
          <p:cNvSpPr/>
          <p:nvPr/>
        </p:nvSpPr>
        <p:spPr>
          <a:xfrm>
            <a:off x="1290600" y="3357720"/>
            <a:ext cx="70488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UA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16" descr=""/>
          <p:cNvPicPr/>
          <p:nvPr/>
        </p:nvPicPr>
        <p:blipFill>
          <a:blip r:embed="rId3"/>
          <a:stretch/>
        </p:blipFill>
        <p:spPr>
          <a:xfrm>
            <a:off x="2087640" y="3290760"/>
            <a:ext cx="434880" cy="351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7"/>
          <p:cNvSpPr/>
          <p:nvPr/>
        </p:nvSpPr>
        <p:spPr>
          <a:xfrm>
            <a:off x="1963800" y="3616200"/>
            <a:ext cx="75384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Nimbus-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18" descr=""/>
          <p:cNvPicPr/>
          <p:nvPr/>
        </p:nvPicPr>
        <p:blipFill>
          <a:blip r:embed="rId4"/>
          <a:stretch/>
        </p:blipFill>
        <p:spPr>
          <a:xfrm>
            <a:off x="828720" y="3333600"/>
            <a:ext cx="307800" cy="2127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9"/>
          <p:cNvSpPr/>
          <p:nvPr/>
        </p:nvSpPr>
        <p:spPr>
          <a:xfrm>
            <a:off x="693720" y="3527280"/>
            <a:ext cx="63648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Earth Prob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0"/>
          <p:cNvSpPr/>
          <p:nvPr/>
        </p:nvSpPr>
        <p:spPr>
          <a:xfrm>
            <a:off x="720720" y="1219320"/>
            <a:ext cx="301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ffec"/>
                </a:solidFill>
                <a:latin typeface="Arial"/>
              </a:rPr>
              <a:t>Current Satell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NASA, NOAA, ESA, JAX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843120" y="2941560"/>
            <a:ext cx="18968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ffec"/>
                </a:solidFill>
                <a:latin typeface="Arial"/>
              </a:rPr>
              <a:t>Legacy Satell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843120" y="5208480"/>
            <a:ext cx="20318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ffec"/>
                </a:solidFill>
                <a:latin typeface="Arial"/>
              </a:rPr>
              <a:t>Compute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23" descr=""/>
          <p:cNvPicPr/>
          <p:nvPr/>
        </p:nvPicPr>
        <p:blipFill>
          <a:blip r:embed="rId5"/>
          <a:stretch/>
        </p:blipFill>
        <p:spPr>
          <a:xfrm>
            <a:off x="1368360" y="5661000"/>
            <a:ext cx="784440" cy="79524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24"/>
          <p:cNvSpPr/>
          <p:nvPr/>
        </p:nvSpPr>
        <p:spPr>
          <a:xfrm>
            <a:off x="987480" y="5564160"/>
            <a:ext cx="47448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GC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5"/>
          <p:cNvSpPr/>
          <p:nvPr/>
        </p:nvSpPr>
        <p:spPr>
          <a:xfrm>
            <a:off x="843120" y="6311880"/>
            <a:ext cx="6966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Regional Mode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6"/>
          <p:cNvSpPr/>
          <p:nvPr/>
        </p:nvSpPr>
        <p:spPr>
          <a:xfrm>
            <a:off x="1955880" y="5478480"/>
            <a:ext cx="792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Earth System Mode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7"/>
          <p:cNvSpPr/>
          <p:nvPr/>
        </p:nvSpPr>
        <p:spPr>
          <a:xfrm>
            <a:off x="1847880" y="6327720"/>
            <a:ext cx="7444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Process Mode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8"/>
          <p:cNvSpPr/>
          <p:nvPr/>
        </p:nvSpPr>
        <p:spPr>
          <a:xfrm>
            <a:off x="988920" y="3841920"/>
            <a:ext cx="21448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ffec"/>
                </a:solidFill>
                <a:latin typeface="Arial"/>
              </a:rPr>
              <a:t>Ground-Based Observ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29" descr=""/>
          <p:cNvPicPr/>
          <p:nvPr/>
        </p:nvPicPr>
        <p:blipFill>
          <a:blip r:embed="rId6"/>
          <a:stretch/>
        </p:blipFill>
        <p:spPr>
          <a:xfrm>
            <a:off x="901800" y="4041720"/>
            <a:ext cx="330120" cy="3301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30"/>
          <p:cNvSpPr/>
          <p:nvPr/>
        </p:nvSpPr>
        <p:spPr>
          <a:xfrm>
            <a:off x="660240" y="4354560"/>
            <a:ext cx="8193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Son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31" descr=""/>
          <p:cNvPicPr/>
          <p:nvPr/>
        </p:nvPicPr>
        <p:blipFill>
          <a:blip r:embed="rId7"/>
          <a:stretch/>
        </p:blipFill>
        <p:spPr>
          <a:xfrm>
            <a:off x="1409760" y="4454640"/>
            <a:ext cx="414360" cy="18252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32"/>
          <p:cNvSpPr/>
          <p:nvPr/>
        </p:nvSpPr>
        <p:spPr>
          <a:xfrm>
            <a:off x="1878120" y="4487760"/>
            <a:ext cx="60624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Aircraf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33" descr=""/>
          <p:cNvPicPr/>
          <p:nvPr/>
        </p:nvPicPr>
        <p:blipFill>
          <a:blip r:embed="rId8"/>
          <a:stretch/>
        </p:blipFill>
        <p:spPr>
          <a:xfrm>
            <a:off x="1992240" y="4687920"/>
            <a:ext cx="339840" cy="3301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34"/>
          <p:cNvSpPr/>
          <p:nvPr/>
        </p:nvSpPr>
        <p:spPr>
          <a:xfrm>
            <a:off x="1682640" y="4970520"/>
            <a:ext cx="88128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Lidar, Rad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5"/>
          <p:cNvSpPr/>
          <p:nvPr/>
        </p:nvSpPr>
        <p:spPr>
          <a:xfrm>
            <a:off x="714240" y="4670280"/>
            <a:ext cx="12938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AERONET, Dobson, Brewer, et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36" descr=""/>
          <p:cNvPicPr/>
          <p:nvPr/>
        </p:nvPicPr>
        <p:blipFill>
          <a:blip r:embed="rId9"/>
          <a:stretch/>
        </p:blipFill>
        <p:spPr>
          <a:xfrm>
            <a:off x="6532560" y="4413240"/>
            <a:ext cx="276120" cy="3175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7"/>
          <p:cNvSpPr/>
          <p:nvPr/>
        </p:nvSpPr>
        <p:spPr>
          <a:xfrm>
            <a:off x="4048200" y="3416400"/>
            <a:ext cx="179388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ff"/>
                </a:solidFill>
                <a:latin typeface="Arial"/>
              </a:rPr>
              <a:t>Air Quality Giovan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8"/>
          <p:cNvSpPr/>
          <p:nvPr/>
        </p:nvSpPr>
        <p:spPr>
          <a:xfrm>
            <a:off x="3871800" y="4246560"/>
            <a:ext cx="179064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ff"/>
                </a:solidFill>
                <a:latin typeface="Arial"/>
              </a:rPr>
              <a:t>Global Warming Giovan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9"/>
          <p:cNvSpPr/>
          <p:nvPr/>
        </p:nvSpPr>
        <p:spPr>
          <a:xfrm>
            <a:off x="6613560" y="3927600"/>
            <a:ext cx="105408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ff"/>
                </a:solidFill>
                <a:latin typeface="Arial"/>
              </a:rPr>
              <a:t>Ozone Giovan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0"/>
          <p:cNvSpPr/>
          <p:nvPr/>
        </p:nvSpPr>
        <p:spPr>
          <a:xfrm>
            <a:off x="5851440" y="3244680"/>
            <a:ext cx="151452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ff"/>
                </a:solidFill>
                <a:latin typeface="Arial"/>
              </a:rPr>
              <a:t>Precipitation Giovan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1"/>
          <p:cNvSpPr/>
          <p:nvPr/>
        </p:nvSpPr>
        <p:spPr>
          <a:xfrm>
            <a:off x="4179960" y="5700600"/>
            <a:ext cx="151452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ff"/>
                </a:solidFill>
                <a:latin typeface="Arial"/>
              </a:rPr>
              <a:t>Cloud Cover Giovan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2"/>
          <p:cNvSpPr/>
          <p:nvPr/>
        </p:nvSpPr>
        <p:spPr>
          <a:xfrm>
            <a:off x="4654440" y="6415200"/>
            <a:ext cx="18147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ff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cc99ff"/>
                </a:solidFill>
                <a:latin typeface="Arial"/>
              </a:rPr>
              <a:t>My Giovanni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3"/>
          <p:cNvSpPr/>
          <p:nvPr/>
        </p:nvSpPr>
        <p:spPr>
          <a:xfrm>
            <a:off x="5749920" y="5848200"/>
            <a:ext cx="151452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ff"/>
                </a:solidFill>
                <a:latin typeface="Arial"/>
              </a:rPr>
              <a:t>Giovanni for Stu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44" descr=""/>
          <p:cNvPicPr/>
          <p:nvPr/>
        </p:nvPicPr>
        <p:blipFill>
          <a:blip r:embed="rId10"/>
          <a:stretch/>
        </p:blipFill>
        <p:spPr>
          <a:xfrm>
            <a:off x="6278400" y="3724200"/>
            <a:ext cx="212760" cy="965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5" descr=""/>
          <p:cNvPicPr/>
          <p:nvPr/>
        </p:nvPicPr>
        <p:blipFill>
          <a:blip r:embed="rId11"/>
          <a:stretch/>
        </p:blipFill>
        <p:spPr>
          <a:xfrm>
            <a:off x="5484960" y="3672000"/>
            <a:ext cx="699840" cy="9856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6" descr=""/>
          <p:cNvPicPr/>
          <p:nvPr/>
        </p:nvPicPr>
        <p:blipFill>
          <a:blip r:embed="rId12"/>
          <a:stretch/>
        </p:blipFill>
        <p:spPr>
          <a:xfrm>
            <a:off x="5389560" y="4518000"/>
            <a:ext cx="625320" cy="244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7" descr=""/>
          <p:cNvPicPr/>
          <p:nvPr/>
        </p:nvPicPr>
        <p:blipFill>
          <a:blip r:embed="rId13"/>
          <a:stretch/>
        </p:blipFill>
        <p:spPr>
          <a:xfrm>
            <a:off x="5495760" y="5492880"/>
            <a:ext cx="466920" cy="8474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8" descr=""/>
          <p:cNvPicPr/>
          <p:nvPr/>
        </p:nvPicPr>
        <p:blipFill>
          <a:blip r:embed="rId14"/>
          <a:stretch/>
        </p:blipFill>
        <p:spPr>
          <a:xfrm>
            <a:off x="6108840" y="5481720"/>
            <a:ext cx="361800" cy="350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9" descr=""/>
          <p:cNvPicPr/>
          <p:nvPr/>
        </p:nvPicPr>
        <p:blipFill>
          <a:blip r:embed="rId15"/>
          <a:stretch/>
        </p:blipFill>
        <p:spPr>
          <a:xfrm>
            <a:off x="4976640" y="5481720"/>
            <a:ext cx="700200" cy="234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0" descr=""/>
          <p:cNvPicPr/>
          <p:nvPr/>
        </p:nvPicPr>
        <p:blipFill>
          <a:blip r:embed="rId16"/>
          <a:stretch/>
        </p:blipFill>
        <p:spPr>
          <a:xfrm>
            <a:off x="5568840" y="4835520"/>
            <a:ext cx="1970280" cy="4572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51"/>
          <p:cNvSpPr/>
          <p:nvPr/>
        </p:nvSpPr>
        <p:spPr>
          <a:xfrm>
            <a:off x="5657760" y="4923000"/>
            <a:ext cx="1792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Giovan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52" descr=""/>
          <p:cNvPicPr/>
          <p:nvPr/>
        </p:nvPicPr>
        <p:blipFill>
          <a:blip r:embed="rId17"/>
          <a:stretch/>
        </p:blipFill>
        <p:spPr>
          <a:xfrm>
            <a:off x="3051000" y="4867200"/>
            <a:ext cx="2424240" cy="5842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53"/>
          <p:cNvSpPr/>
          <p:nvPr/>
        </p:nvSpPr>
        <p:spPr>
          <a:xfrm>
            <a:off x="3146400" y="5051520"/>
            <a:ext cx="15145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00cc"/>
                </a:solidFill>
                <a:latin typeface="Arial"/>
              </a:rPr>
              <a:t>near fu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88480" y="0"/>
            <a:ext cx="8636040" cy="10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rehensive Data Systems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Giovanni now</a:t>
            </a:r>
            <a:endParaRPr b="0" lang="en-US" sz="4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596880" y="1473120"/>
            <a:ext cx="901080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than 35 customized Giovanni in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than 1000 of geophysical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ta fr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spcAft>
                <a:spcPts val="601"/>
              </a:spcAft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~ 20 space-based instrum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spcAft>
                <a:spcPts val="601"/>
              </a:spcAft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~ 50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spcAft>
                <a:spcPts val="601"/>
              </a:spcAft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PA and Aeronet s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ultiple visualization and statistical analysis functionalities including data intercompar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ta line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bsetted data downloads in multiple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4840" y="247320"/>
            <a:ext cx="9055080" cy="66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298"/>
                </a:solidFill>
                <a:latin typeface="Arial"/>
              </a:rPr>
              <a:t>Multi-Sensor Air Quality Giovanni</a:t>
            </a:r>
            <a:endParaRPr b="0" lang="en-US" sz="36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552600" y="1263600"/>
            <a:ext cx="9050040" cy="63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Visualizations of Level-3 gridded satellit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e first Giovanni instance with point source data (PM</a:t>
            </a: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2.5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ground-based aerosol observations from EPA) co-located with a variety of satellite data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Multi-sensor observations of aerosols </a:t>
            </a: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facilitate analysis of air pollutio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emporal and geographical selection of data products - Lat/lon maps with overlay option, time series, and Hov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ö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ller plots for </a:t>
            </a:r>
            <a:r>
              <a:rPr b="0" i="1" lang="en-US" sz="2400" spc="-1" strike="noStrike">
                <a:solidFill>
                  <a:srgbClr val="fff298"/>
                </a:solidFill>
                <a:latin typeface="Trebuchet MS"/>
              </a:rPr>
              <a:t>customized visualization of air quality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ombined surface monitor and satellite data - AOD/ PM</a:t>
            </a: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2.5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scatter plots, correlation maps, time series and difference plots for </a:t>
            </a:r>
            <a:r>
              <a:rPr b="0" i="1" lang="en-US" sz="2400" spc="-1" strike="noStrike">
                <a:solidFill>
                  <a:srgbClr val="fff298"/>
                </a:solidFill>
                <a:latin typeface="Trebuchet MS"/>
              </a:rPr>
              <a:t>analysis and source attribution of pollutio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emporal animation plots of air quality data products for examining </a:t>
            </a:r>
            <a:r>
              <a:rPr b="0" i="1" lang="en-US" sz="2400" spc="-1" strike="noStrike">
                <a:solidFill>
                  <a:srgbClr val="fff298"/>
                </a:solidFill>
                <a:latin typeface="Trebuchet MS"/>
              </a:rPr>
              <a:t>long range transport of pollu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"/>
          <p:cNvPicPr/>
          <p:nvPr/>
        </p:nvPicPr>
        <p:blipFill>
          <a:blip r:embed="rId1"/>
          <a:srcRect l="0" t="0" r="3827" b="0"/>
          <a:stretch/>
        </p:blipFill>
        <p:spPr>
          <a:xfrm>
            <a:off x="5292720" y="152280"/>
            <a:ext cx="4073400" cy="2590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2"/>
          <a:srcRect l="0" t="6888" r="0" b="0"/>
          <a:stretch/>
        </p:blipFill>
        <p:spPr>
          <a:xfrm>
            <a:off x="212760" y="152280"/>
            <a:ext cx="4827600" cy="36673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"/>
          <p:cNvPicPr/>
          <p:nvPr/>
        </p:nvPicPr>
        <p:blipFill>
          <a:blip r:embed="rId3"/>
          <a:stretch/>
        </p:blipFill>
        <p:spPr>
          <a:xfrm>
            <a:off x="203040" y="3809880"/>
            <a:ext cx="4848480" cy="31435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7"/>
          <p:cNvSpPr/>
          <p:nvPr/>
        </p:nvSpPr>
        <p:spPr>
          <a:xfrm>
            <a:off x="966960" y="182520"/>
            <a:ext cx="36558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ly 3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8" descr=""/>
          <p:cNvPicPr/>
          <p:nvPr/>
        </p:nvPicPr>
        <p:blipFill>
          <a:blip r:embed="rId4"/>
          <a:srcRect l="0" t="0" r="4033" b="0"/>
          <a:stretch/>
        </p:blipFill>
        <p:spPr>
          <a:xfrm>
            <a:off x="5283360" y="2666880"/>
            <a:ext cx="4082760" cy="226692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11"/>
          <p:cNvSpPr/>
          <p:nvPr/>
        </p:nvSpPr>
        <p:spPr>
          <a:xfrm>
            <a:off x="5156280" y="5087880"/>
            <a:ext cx="44193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5360" indent="-22536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 Canada and the north-central US, MODIS and OMI show thick aerosols plumes. CALIOP overpass has a plume above the boundary lay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 the Southeastern US OMI doesn’t see aerosols located mostly in the boundary layer according to CALIO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552600" y="6989760"/>
            <a:ext cx="22809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/6/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Straight Arrow Connector 11"/>
          <p:cNvCxnSpPr/>
          <p:nvPr/>
        </p:nvCxnSpPr>
        <p:spPr>
          <a:xfrm flipH="1" flipV="1">
            <a:off x="2279160" y="914040"/>
            <a:ext cx="4115520" cy="99144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36" name="Straight Arrow Connector 12"/>
          <p:cNvCxnSpPr/>
          <p:nvPr/>
        </p:nvCxnSpPr>
        <p:spPr>
          <a:xfrm flipH="1" flipV="1">
            <a:off x="3117240" y="2056680"/>
            <a:ext cx="4191480" cy="243900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53600" y="228600"/>
            <a:ext cx="8285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285ff"/>
                </a:solidFill>
                <a:latin typeface="Calibri"/>
              </a:rPr>
              <a:t>Hemispheric Transport of Air pollution (HTAP) Giovanni</a:t>
            </a:r>
            <a:endParaRPr b="0" lang="en-US" sz="4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162000" y="2209680"/>
            <a:ext cx="3927240" cy="47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5760">
              <a:lnSpc>
                <a:spcPct val="9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Develop a web-based tool for Hemispheric Transport of Air pollution Model Inter-compari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>
              <a:lnSpc>
                <a:spcPct val="9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>
              <a:lnSpc>
                <a:spcPct val="9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Potentially expand it for comparison with remote sensing data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unding: Friedl, Collaborator:  Ke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15" descr=""/>
          <p:cNvPicPr/>
          <p:nvPr/>
        </p:nvPicPr>
        <p:blipFill>
          <a:blip r:embed="rId1"/>
          <a:stretch/>
        </p:blipFill>
        <p:spPr>
          <a:xfrm>
            <a:off x="4518000" y="1828800"/>
            <a:ext cx="5137200" cy="4784760"/>
          </a:xfrm>
          <a:prstGeom prst="rect">
            <a:avLst/>
          </a:prstGeom>
          <a:ln w="0">
            <a:noFill/>
          </a:ln>
        </p:spPr>
      </p:pic>
      <p:sp>
        <p:nvSpPr>
          <p:cNvPr id="240" name="Date Placeholder 4"/>
          <p:cNvSpPr/>
          <p:nvPr/>
        </p:nvSpPr>
        <p:spPr>
          <a:xfrm>
            <a:off x="762120" y="6942240"/>
            <a:ext cx="21175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6377-2B96-452D-B4C7-57937534703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7280280" y="6942240"/>
            <a:ext cx="2119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B59B-398B-4000-8C7B-2BD230CB26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Footer Placeholder 6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regory Leptoukh, NA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1760" y="2367000"/>
            <a:ext cx="8636040" cy="1633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Technicalities: servers, protocols, interoperability, etc.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19320" y="169920"/>
            <a:ext cx="88567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Giovanni Data sources and their access protocols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736560" y="893880"/>
          <a:ext cx="8861400" cy="6040440"/>
        </p:xfrm>
        <a:graphic>
          <a:graphicData uri="http://schemas.openxmlformats.org/drawingml/2006/table">
            <a:tbl>
              <a:tblPr/>
              <a:tblGrid>
                <a:gridCol w="3330720"/>
                <a:gridCol w="1665360"/>
                <a:gridCol w="3865320"/>
              </a:tblGrid>
              <a:tr h="345960"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Data sour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Protoc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53600"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NASA GES DI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d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Local ac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d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AIRS, TRMM, OMI, MLS, HIRD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d"/>
                    </a:solidFill>
                  </a:tcPr>
                </a:tc>
              </a:tr>
              <a:tr h="345960"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NASA MODIS DAA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8f6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F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8f6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MOD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8f6"/>
                    </a:solidFill>
                  </a:tcPr>
                </a:tc>
              </a:tr>
              <a:tr h="345240"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NASA Ocean Color DAA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d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F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d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SeaWiFS, MOD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d"/>
                    </a:solidFill>
                  </a:tcPr>
                </a:tc>
              </a:tr>
              <a:tr h="346320"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NASA Langley DAA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8f6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OPeND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8f6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CALIPSO, MISR, TES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CE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8f6"/>
                    </a:solidFill>
                  </a:tcPr>
                </a:tc>
              </a:tr>
              <a:tr h="345960"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NSID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d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F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d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AMSR-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d"/>
                    </a:solidFill>
                  </a:tcPr>
                </a:tc>
              </a:tr>
              <a:tr h="403200"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NOA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8f6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F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8f6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Snow, Ice, NC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8f6"/>
                    </a:solidFill>
                  </a:tcPr>
                </a:tc>
              </a:tr>
              <a:tr h="345960"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Univ. of Mary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d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F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d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MODIS fire, NDV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d"/>
                    </a:solidFill>
                  </a:tcPr>
                </a:tc>
              </a:tr>
              <a:tr h="345240"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Colorado State Uni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8f6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F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8f6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CloudS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8f6"/>
                    </a:solidFill>
                  </a:tcPr>
                </a:tc>
              </a:tr>
              <a:tr h="346320"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CIESIN Columbia Univers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d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F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d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Population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d"/>
                    </a:solidFill>
                  </a:tcPr>
                </a:tc>
              </a:tr>
              <a:tr h="345960"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JP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8f6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F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8f6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QuickS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8f6"/>
                    </a:solidFill>
                  </a:tcPr>
                </a:tc>
              </a:tr>
              <a:tr h="345240"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EPA via DataF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d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W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d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PM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d"/>
                    </a:solidFill>
                  </a:tcPr>
                </a:tc>
              </a:tr>
              <a:tr h="345960"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Lille, Fr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8f6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F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8f6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Para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8f6"/>
                    </a:solidFill>
                  </a:tcPr>
                </a:tc>
              </a:tr>
              <a:tr h="345240"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E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d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F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d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ME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d"/>
                    </a:solidFill>
                  </a:tcPr>
                </a:tc>
              </a:tr>
              <a:tr h="345960"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Juelich, Germa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8f6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FTP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 W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8f6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HT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8f6"/>
                    </a:solidFill>
                  </a:tcPr>
                </a:tc>
              </a:tr>
              <a:tr h="346320"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DLR, Germa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8f6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W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8f6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GOME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8f6"/>
                    </a:solidFill>
                  </a:tcPr>
                </a:tc>
              </a:tr>
              <a:tr h="345240"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Paris, Fr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d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OPeND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d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AERO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d"/>
                    </a:solidFill>
                  </a:tcPr>
                </a:tc>
              </a:tr>
            </a:tbl>
          </a:graphicData>
        </a:graphic>
      </p:graphicFrame>
      <p:sp>
        <p:nvSpPr>
          <p:cNvPr id="246" name="Date Placeholder 3"/>
          <p:cNvSpPr/>
          <p:nvPr/>
        </p:nvSpPr>
        <p:spPr>
          <a:xfrm>
            <a:off x="762120" y="6942240"/>
            <a:ext cx="21175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C41C-589A-4066-9B84-DC3408B2CB7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7280280" y="6942240"/>
            <a:ext cx="2119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0446-D288-4F8E-80EB-F97A6B77AC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ooter Placeholder 5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regory Leptoukh, NA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88480" y="152280"/>
            <a:ext cx="86360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Giovanni Data via Protocols &amp; Services</a:t>
            </a:r>
            <a:endParaRPr b="0" lang="en-US" sz="4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36200" y="963360"/>
            <a:ext cx="908388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onymous FT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vailable for all public dat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ublic HTT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lternative to anonymous FTP, for most dat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pen-Source Network for Data Access Protocol (OPeNDAP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pports subsetting, ASCII downloa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pports netCDF conversion for HDF5 dat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vailable for many datase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GC Web Coverage Servi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ypically implies interpolation / reprojec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etCDF/CF-1 profi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oes not support vertical profil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ffered for a few datase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GC Web Map Servi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projected, mapped visualiz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ffered for TRMM AIRS, AIRS Near-real-tim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Date Placeholder 3"/>
          <p:cNvSpPr/>
          <p:nvPr/>
        </p:nvSpPr>
        <p:spPr>
          <a:xfrm>
            <a:off x="762120" y="6942240"/>
            <a:ext cx="21175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70B7-F59C-475C-9316-5F70C68540B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7280280" y="6942240"/>
            <a:ext cx="2119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9B88-02DE-4FA0-969D-C59322F9EF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ooter Placeholder 5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regory Leptoukh, NA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Leptoukh</cp:lastModifiedBy>
  <dcterms:modified xsi:type="dcterms:W3CDTF">2010-07-21T12:48:12Z</dcterms:modified>
  <cp:revision>76</cp:revision>
  <dc:subject/>
  <dc:title>PowerPoint Presentation</dc:title>
</cp:coreProperties>
</file>